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F0B7-AFD2-41AE-8601-A9CC4F6BD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881E-3159-47EA-ADFC-5F0684BE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A799-B047-4226-9C2E-2E6BC00FD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A7EB-7346-423F-B2F8-D284C76E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0428-D816-4DFD-974D-770CE437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0631-B97A-45C9-9E62-F659ECE3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8781-FFE8-4A3A-A2DB-75775904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54E3-7E43-4ABF-963A-A65FF7E2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508E-D72D-4A20-A3BA-898D00D5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517D-F162-44F9-8B58-A7E84066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00A5-E026-4D46-9B23-38BBCF76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13E9-9E92-4C20-83A5-09C774F1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BC0E-B347-4910-8FB1-1438704B4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19160" y="-15840"/>
            <a:ext cx="93423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175520" y="5778360"/>
            <a:ext cx="1968480" cy="1079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34800" y="88920"/>
            <a:ext cx="846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STUDENT ASPIRA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0680" y="2227320"/>
            <a:ext cx="395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LF WO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29120" y="19270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elo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29120" y="2340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er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929120" y="2752560"/>
            <a:ext cx="38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nse of Accomplis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0680" y="3533760"/>
            <a:ext cx="4508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CTIVE ENG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0680" y="5511960"/>
            <a:ext cx="440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29120" y="367020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n &amp; Exc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29120" y="4132440"/>
            <a:ext cx="34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uriosity &amp; Cre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29120" y="459576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irit of Adven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29120" y="5546880"/>
            <a:ext cx="38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eadership &amp;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29120" y="6045120"/>
            <a:ext cx="38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nfidence to Tak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1360" y="3581280"/>
            <a:ext cx="8667720" cy="1505160"/>
          </a:xfrm>
          <a:prstGeom prst="rect">
            <a:avLst/>
          </a:prstGeom>
          <a:noFill/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2840" y="92160"/>
            <a:ext cx="3184560" cy="1280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170840" y="4892760"/>
            <a:ext cx="1679400" cy="1965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7108920" y="185760"/>
            <a:ext cx="1992240" cy="157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60280" y="1084320"/>
            <a:ext cx="862164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Our Self-Worth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ing Active Eng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ing Your Aspirations into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ing an Aspiration Plan with Your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Our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n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and 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87680" y="262080"/>
            <a:ext cx="598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day’s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114880" y="3787920"/>
            <a:ext cx="4108320" cy="3070080"/>
            <a:chOff x="5114880" y="3787920"/>
            <a:chExt cx="4108320" cy="307008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241960" y="3919680"/>
              <a:ext cx="3981240" cy="29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114880" y="3787920"/>
              <a:ext cx="184320" cy="3070080"/>
            </a:xfrm>
            <a:prstGeom prst="rect">
              <a:avLst/>
            </a:prstGeom>
            <a:solidFill>
              <a:srgbClr val="003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09480" y="3124080"/>
            <a:ext cx="6438960" cy="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542880"/>
            <a:ext cx="1735200" cy="12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820880"/>
            <a:ext cx="1735200" cy="12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079800"/>
            <a:ext cx="1735200" cy="12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357800"/>
            <a:ext cx="1735200" cy="12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627520"/>
            <a:ext cx="1735200" cy="126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9600" y="0"/>
            <a:ext cx="1827000" cy="550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24480" y="0"/>
            <a:ext cx="1827360" cy="550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43920" y="0"/>
            <a:ext cx="1827000" cy="550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0"/>
            <a:ext cx="1827360" cy="550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15120" y="542880"/>
            <a:ext cx="1822320" cy="12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reate unique learning opports at each grade level.  E.g., all jrs spend ½ day job shadowing per term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15120" y="1812960"/>
            <a:ext cx="1822320" cy="12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velop, discuss, and coordinate lessons that reflect current research on Multiple Intelligences, etc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15120" y="3084480"/>
            <a:ext cx="1822320" cy="12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rovide staff meeting time for staff action abov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odel best practice in staff meetings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15120" y="4356000"/>
            <a:ext cx="1822320" cy="12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arents invited to discuss real world uses of each subject area (ala a career far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15120" y="5627520"/>
            <a:ext cx="1822320" cy="12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ctively and publicly support unique learning opts for students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43920" y="542880"/>
            <a:ext cx="1822320" cy="12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*Increase in student attendance on unique lrng d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*Student evals indicate relevance and interest in this type of lear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43920" y="1812960"/>
            <a:ext cx="1822320" cy="12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n any given day students have a variety of intelligences engaged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43920" y="3084480"/>
            <a:ext cx="1822320" cy="12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ff meeting time dedicated to staff action pl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ff meetings are more engag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43920" y="4356000"/>
            <a:ext cx="1822320" cy="12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arents in building discussing real world uses in each subject area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43920" y="5627520"/>
            <a:ext cx="1822320" cy="12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mmunity through word and budget supports unique learnin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49600" y="542880"/>
            <a:ext cx="1822320" cy="631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decrease classroom boredom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78400" y="542880"/>
            <a:ext cx="1822320" cy="631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at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y Voice survey indicates students are generally bo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tive Engag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dent boredom decreases student engagement and learning and has a contributing effect on discipline and dropout issu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80" y="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TIVE ENG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60280" y="1084320"/>
            <a:ext cx="862164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Our Self-Worth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ing Active Eng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ing Your Aspirations into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ing an Aspiration Plan with Your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Our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n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and 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87680" y="262080"/>
            <a:ext cx="598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day’s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114880" y="3787920"/>
            <a:ext cx="4108320" cy="3070080"/>
            <a:chOff x="5114880" y="3787920"/>
            <a:chExt cx="4108320" cy="307008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5241960" y="3919680"/>
              <a:ext cx="3981240" cy="29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114880" y="3787920"/>
              <a:ext cx="184320" cy="3070080"/>
            </a:xfrm>
            <a:prstGeom prst="rect">
              <a:avLst/>
            </a:prstGeom>
            <a:solidFill>
              <a:srgbClr val="003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V="1">
            <a:off x="609480" y="3790440"/>
            <a:ext cx="7124760" cy="1908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4880" y="4286160"/>
            <a:ext cx="1200240" cy="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60280" y="1084320"/>
            <a:ext cx="862164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Our Self-Worth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ing Active Eng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ing Your Aspirations into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ing an Aspiration Plan with Your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Our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n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and 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87680" y="262080"/>
            <a:ext cx="598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day’s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114880" y="3787920"/>
            <a:ext cx="4108320" cy="3070080"/>
            <a:chOff x="5114880" y="3787920"/>
            <a:chExt cx="4108320" cy="307008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5241960" y="3919680"/>
              <a:ext cx="3981240" cy="29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5114880" y="3787920"/>
              <a:ext cx="184320" cy="3070080"/>
            </a:xfrm>
            <a:prstGeom prst="rect">
              <a:avLst/>
            </a:prstGeom>
            <a:solidFill>
              <a:srgbClr val="003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5029200"/>
            <a:ext cx="3505320" cy="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60280" y="1084320"/>
            <a:ext cx="862164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Our Self-Worth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ing Active Eng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ing Your Aspirations into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ing an Aspiration Plan with Your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Our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n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and 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87680" y="262080"/>
            <a:ext cx="598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day’s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114880" y="3787920"/>
            <a:ext cx="4108320" cy="3070080"/>
            <a:chOff x="5114880" y="3787920"/>
            <a:chExt cx="4108320" cy="3070080"/>
          </a:xfrm>
        </p:grpSpPr>
        <p:pic>
          <p:nvPicPr>
            <p:cNvPr id="152" name="" descr=""/>
            <p:cNvPicPr/>
            <p:nvPr/>
          </p:nvPicPr>
          <p:blipFill>
            <a:blip r:embed="rId1"/>
            <a:stretch/>
          </p:blipFill>
          <p:spPr>
            <a:xfrm>
              <a:off x="5241960" y="3919680"/>
              <a:ext cx="3981240" cy="29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5114880" y="3787920"/>
              <a:ext cx="184320" cy="3070080"/>
            </a:xfrm>
            <a:prstGeom prst="rect">
              <a:avLst/>
            </a:prstGeom>
            <a:solidFill>
              <a:srgbClr val="003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590400" y="5791320"/>
            <a:ext cx="3353040" cy="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687680" y="262080"/>
            <a:ext cx="598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day’s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114880" y="3787920"/>
            <a:ext cx="4108320" cy="3070080"/>
            <a:chOff x="5114880" y="3787920"/>
            <a:chExt cx="4108320" cy="307008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5241960" y="3919680"/>
              <a:ext cx="3981240" cy="29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14880" y="3787920"/>
              <a:ext cx="184320" cy="3070080"/>
            </a:xfrm>
            <a:prstGeom prst="rect">
              <a:avLst/>
            </a:prstGeom>
            <a:solidFill>
              <a:srgbClr val="003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0400" y="6496200"/>
            <a:ext cx="4286520" cy="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0280" y="1084320"/>
            <a:ext cx="862164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Our Self-Worth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ing Active Eng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ing Your Aspirations into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ing an Aspiration Plan with Your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Our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n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and 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009800" y="361800"/>
            <a:ext cx="721980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Next Session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May 9, 200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00"/>
                </a:solidFill>
                <a:uFillTx/>
                <a:latin typeface="Arial"/>
              </a:rPr>
              <a:t>Purpo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ffee &amp; Sign-in: 8:30-9: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ssion: 9:00-12: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-198360" y="0"/>
            <a:ext cx="934236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175520" y="5778360"/>
            <a:ext cx="1968480" cy="1079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60280" y="1179360"/>
            <a:ext cx="862164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Our Self-Worth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ing Active Eng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ing Your Aspirations into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ing an Aspiration Plan with Your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Our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n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and 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87680" y="262080"/>
            <a:ext cx="598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day’s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114880" y="3787920"/>
            <a:ext cx="4108320" cy="3070080"/>
            <a:chOff x="5114880" y="3787920"/>
            <a:chExt cx="4108320" cy="307008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5241960" y="3919680"/>
              <a:ext cx="3981240" cy="29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5114880" y="3787920"/>
              <a:ext cx="184320" cy="3070080"/>
            </a:xfrm>
            <a:prstGeom prst="rect">
              <a:avLst/>
            </a:prstGeom>
            <a:solidFill>
              <a:srgbClr val="003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609480" y="1733400"/>
            <a:ext cx="5810400" cy="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27120" y="574560"/>
            <a:ext cx="782316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87680" y="262080"/>
            <a:ext cx="598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day’s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114880" y="3787920"/>
            <a:ext cx="4108320" cy="3070080"/>
            <a:chOff x="5114880" y="3787920"/>
            <a:chExt cx="4108320" cy="307008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241960" y="3919680"/>
              <a:ext cx="3981240" cy="29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114880" y="3787920"/>
              <a:ext cx="184320" cy="3070080"/>
            </a:xfrm>
            <a:prstGeom prst="rect">
              <a:avLst/>
            </a:prstGeom>
            <a:solidFill>
              <a:srgbClr val="003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609480" y="2629080"/>
            <a:ext cx="6438960" cy="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0280" y="1332000"/>
            <a:ext cx="862164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Our Self-Worth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ing Active Eng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ing Your Aspirations into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ing an Aspiration Plan with Your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Our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n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and 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380880"/>
            <a:ext cx="8305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spirations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ability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o dream and set goal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for the future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while being inspired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in the presen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o reach those dream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839000" y="4057560"/>
            <a:ext cx="1305000" cy="2800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34800" y="88920"/>
            <a:ext cx="846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STUDENT ASPIRA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0680" y="2227320"/>
            <a:ext cx="395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LF WO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0680" y="3533760"/>
            <a:ext cx="4508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CTIVE ENG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0680" y="5511960"/>
            <a:ext cx="440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19270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elo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340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er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29120" y="2752560"/>
            <a:ext cx="38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nse of Accomplis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29120" y="367020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n &amp; Exc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29120" y="4132440"/>
            <a:ext cx="34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uriosity &amp; Cre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29120" y="459576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irit of Adven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29120" y="5546880"/>
            <a:ext cx="38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eadership &amp;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6045120"/>
            <a:ext cx="38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nfidence to Tak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55600" y="216000"/>
            <a:ext cx="1620720" cy="2012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34800" y="88920"/>
            <a:ext cx="846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STUDENT ASPIRA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0680" y="3533760"/>
            <a:ext cx="4508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CTIVE ENG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29120" y="353700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n &amp; Exc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170840" y="4892760"/>
            <a:ext cx="1679400" cy="1965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435560" y="2146320"/>
            <a:ext cx="4346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 wonder if anything will ever make our principal laugh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-Jasmine, a middle school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3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34800" y="88920"/>
            <a:ext cx="846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STUDENT ASPIRA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0680" y="3533760"/>
            <a:ext cx="4508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CTIVE ENG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29120" y="353700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n &amp; Exc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29120" y="3998880"/>
            <a:ext cx="34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uriosity &amp; Cre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170840" y="4892760"/>
            <a:ext cx="1679400" cy="1965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108920" y="185760"/>
            <a:ext cx="1992240" cy="1579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324160" y="5202360"/>
            <a:ext cx="4024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r some reason I like painting blue rose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-Becky, a second gr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2840" y="92160"/>
            <a:ext cx="3184560" cy="1280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34800" y="88920"/>
            <a:ext cx="846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STUDENT ASPIRA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0680" y="3533760"/>
            <a:ext cx="4508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CTIVE ENG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29120" y="353700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n &amp; Exc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29120" y="3998880"/>
            <a:ext cx="34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uriosity &amp; Cre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29120" y="446256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irit of Adven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170840" y="4892760"/>
            <a:ext cx="1679400" cy="1965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108920" y="185760"/>
            <a:ext cx="1992240" cy="1579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47560" y="1994040"/>
            <a:ext cx="57200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 am not afraid of a lot of things, but raising my hand in class scares me to death…Now my teachers think I’m stupid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-Marcus, a high school jun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9:49:25Z</dcterms:created>
  <dc:creator>Mickey Corso</dc:creator>
  <dc:description/>
  <dc:language>en-US</dc:language>
  <cp:lastModifiedBy> </cp:lastModifiedBy>
  <dcterms:modified xsi:type="dcterms:W3CDTF">2008-07-09T18:31:10Z</dcterms:modified>
  <cp:revision>47</cp:revision>
  <dc:subject/>
  <dc:title>Slide 1</dc:title>
</cp:coreProperties>
</file>